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992-D595-4DDC-86E1-1AB9EA3C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E36-28DC-4E95-BB48-BBFCA01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5EAE3E-C011-46F7-A5FD-614568F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E58DC-4FD5-411D-B2F2-3EEE97FE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1FCEB-857A-4D29-A5CF-8411EFE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8B154-26B0-4E61-BDFA-33C7C1C0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1CDAC-DF1C-4827-93B8-AB472F6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39726-5731-4CFE-8787-316FC6D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99958-C410-489B-AF0C-B4C1C327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3A0FA-2A73-4D93-8A90-26652523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CB02C-EFFA-4F9E-9211-AD867077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4C1-62E3-4963-94A9-A5E1618F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BD7-35A8-4B6B-B653-C5E9B468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582D-7058-4FA4-97FB-DB0273F6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24B1-B74C-4841-B1F2-A016855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08AF-38CE-4AA5-A256-EC4F43B4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A259-39BC-45BF-ADB6-DCE8727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EC0-2CC8-4E60-9981-8C03882F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826E-077A-4365-AE21-5C21A944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4EEE-4078-4317-A869-964E520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E27-C602-487A-AC0B-BC81E5EE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24CC-DBBE-4425-99EF-655A079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F991-4D98-449A-B8F5-10C0844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57D8-2C6A-4238-8D1C-FE727CF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B2D-C359-405B-A26E-11C606FD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2596-CB77-442E-B154-57229E5E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B6F4-ED04-4BE9-9EF5-DE407BDC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64BB-0106-4DD6-9113-5C05516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2002-4E1F-4461-802C-9CF703A5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03B2-C686-45A7-A358-5C63B4A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A406-D505-44C8-B374-2053DA9B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BED-99D3-4082-8B0C-3A0FDCCE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CB07-E456-46E7-96C0-AC94CA57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D3B6-1B00-4165-ABA2-A76B3ABF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A6CA-C35D-42D3-800E-1E6F7677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6FA7-E101-496F-8789-BC3EADE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E4D8-7F28-4B5D-9B61-98C82C7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3E91-C984-470A-A427-9B3586E8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E78B-68FD-4613-BD94-AC74CDC3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EF675-A459-4EE5-8EED-5CE256AB39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F00EA-7699-4507-A9EE-EEDC5EF448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D85A6-FD6F-4965-A40B-5639E85F5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708-19D0-418E-B2F4-A51639B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8A8C3-1C21-4F9C-B7E2-D339CB989D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B84A8-ECA7-4939-A38B-0CB335B6E5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56310-8D5E-4F02-A487-1343C61BDF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AD705-AC7E-428B-A014-5CB9A7363A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96A23-58E2-4AD8-A5C5-0F69CC5A2B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AEA42-881E-46CC-951D-2B53CE5793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7D7F6-7DBD-49FC-96B2-ADC1AE63B4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1FBBE-7E9A-44E4-A827-4730EC6804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33199-7C47-44D4-BF76-3E0133B62A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0B16-BD94-442F-A92D-DCE212D19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EEF-3621-46D7-A75B-47A5D6C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C64B-9BD0-4E98-8EDA-D8875CC7E4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BE61-F4A1-4689-8288-9830D173EA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6DA6-A90A-4966-8B3D-DE726073FA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0F28-01E9-44CD-932A-ECB5706B87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1D66-1B4B-436B-B3F9-5767B628F8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EAA6-9952-4D09-84FD-C0CF2F29BF5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C50A1-893C-41FA-AB08-796B96CC21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9DA5-8389-4604-AA4B-C89704CBD6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F8CF-17E0-493D-BE2C-BECBB247B9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4431-30D3-437E-ACB6-7D4E08B33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23B-CC14-4223-A5EC-18F311C8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CE04-6DDE-4A88-BB28-A2A4C55209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9A822B-7CD1-4731-BB0C-CCD57E40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4C260-3F2C-4709-85E4-943C1452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30D5E-A839-47B7-8E40-867FF8D6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B8D998-0F86-4FC0-936A-A5CF7847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1A06DE-67AD-4373-84CC-A2929EB9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30BEB-1C73-4848-BC18-40365BD2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9AEA8-192D-44A4-9FF0-131373E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90056-17AF-4F72-9A2A-406E96C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2C03B-5F50-4F94-B84D-A1B4FE8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C78-0089-4C24-8583-EDEE91E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561AB-A1AA-48A8-B01B-AFF1CAD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C8525-29F3-4BA7-90F3-2E2C4136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4AB1A-B68B-479B-9BCF-8054A642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9586-00F9-4978-AF4E-FE37A5E126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315A-0241-49A2-8DAF-54B4B58585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819A6-3813-4975-B93F-9E74E9838B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68A5-4170-47D6-AFB5-E453FBD1AA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23B15-9577-4103-88FB-81A07520C7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FBFA2-678B-43A5-8CEB-0E210A4A9B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01E8-5BC0-4F81-8725-D70592D9A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89D-64E3-4E74-98EF-3050EA0C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D27B-A6C0-4C63-A8B3-81B08EFFD5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0AD0-76D8-40F8-9D83-B2C66D9754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1F4D-570D-4626-9912-8845FB8DCB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6E4F-3BD3-400E-8DEB-09998866D7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BF94-6153-41D0-A866-E4E5CCF9AD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F0461-BCA1-4241-BD06-320BD5DC42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E23C4-A7B5-4DC5-B693-5CE6F4A206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67A0A-9841-4940-A5AC-51B9D6E77E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93C0A-288D-427F-8853-7A71D298F5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DD243-B3AB-4ADA-B914-330BCB504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41B-8DC6-4DD4-980A-99CE979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89D07-9145-4AFB-87AE-2001ECA155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D673E-C845-4869-91E2-017C09E141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DCF05-A129-42D2-8FCC-14FEA98E8EE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A1B86-EF3C-4C39-9019-AE1121B278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0213D-A5C8-4F4C-99BA-DC07CA100F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D2287-CCBF-445E-975E-B84CE503326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F426B-EC05-4E63-A4EC-A74C075B8C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B2A5C-DA7C-44EE-8040-FDD73529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65D3E-7F54-4ED9-BBFF-BDC853B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69223C-515D-4070-8FD4-3398D26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1A6-FCAE-4BBC-9C15-02651424D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B745-0C64-49D4-ADB6-98CE21385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4E87-F6DF-40DA-B5C2-55C861358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B578749-CA47-45BE-B916-73F8C117F03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A041B02-2C4A-4436-8C53-C48DE98CB6A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DEB6-F679-406C-B177-FED493167996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CE414A1-BB18-4E84-B6D4-9F77EC20554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59CBE0E-36EB-48C8-A648-C9632AFA832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7036EF1-DDAF-4CD9-BE9C-E1D5A121AC0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A44D-7171-4CAB-8D9C-83D8CE4B2181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ahoma"/>
              </a:rPr>
              <a:t>The Economics of </a:t>
            </a:r>
            <a:br>
              <a:rPr sz="5400"/>
            </a:br>
            <a:r>
              <a:rPr b="1" lang="en-US" sz="5400" spc="-1" strike="noStrike">
                <a:solidFill>
                  <a:srgbClr val="008000"/>
                </a:solidFill>
                <a:latin typeface="Tahoma"/>
              </a:rPr>
              <a:t>Supply and Demand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43000" y="48769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.1 Supply and Dem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.2 Pricing Strate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.3 Market Condition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762120" y="3049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Arial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3F39-4D7E-4BAD-AA05-2E1745FC3D9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Equilib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int where the supply and demand curves inters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ates the best quantity and price for goods and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BD8-81B2-4761-9741-3EBD9C7C94B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14065" t="16666" r="28908" b="12502"/>
          <a:stretch/>
        </p:blipFill>
        <p:spPr>
          <a:xfrm>
            <a:off x="1523880" y="533520"/>
            <a:ext cx="556272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E4E-FCA7-481D-B19A-4D7380F1B90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certs in the Spotligh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rt prices can be set hi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ed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demand is high enough, supply can be increased by adding a second sh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60B0-393E-4E6B-9233-24AD59B9866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160" y="243180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price affect dem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1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C118-CAB2-4540-B27F-88F3CBBB3E5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OVERNMENT INFLUENCE ON PRIC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-enterpris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upon independent decisions made by consumers and busi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553080" y="426708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C3D-7551-4D43-BB4F-1D461242CC5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09480" y="121932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U.S. government has an influence on prices charged for merchandise directly and indirectly through antitrust laws, taxation, and various consumer protection la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E00-2F2E-4697-B377-B752E12C29F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Benefits of Compet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p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one business controls the entire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trust laws encourage competition and help avoid monopol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BF7-F2E5-4B35-9BD1-D2F56667B41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ax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ation can be used by the government to encourage or discourage s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E6EF-D299-42AC-86BD-A38059A1E7E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Illegal Pric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ce fi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related businesses conspire to charge high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egal in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91C-A64B-442B-8AE4-3EA989544C0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product that is advertised at a great price is “out of sto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sperson tries to sell customer a higher-priced altern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tised prices cannot be misl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ce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s when one individual, group, or business is charged a higher price than others purchasing the same product 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bait and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7FFB-ECBE-4462-8E26-16D9F989E3B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inning Strateg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aties cereal discovered by acc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featured star was fictit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 Gehrig was first actual star fea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athletes make it a career goal to be featured on the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9, women in sports were featur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57200" y="1066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ereal Sta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74E-98C0-4B3B-AEC3-823063764A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3160" y="243180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three ways the government influences pric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148-A729-4A67-B2CF-503285149A7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9.2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Pricing Strateg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978200"/>
            <a:ext cx="7772400" cy="39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pricing strategies used by businesses to increase s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five steps for determining pri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564F-9574-4232-BB2F-2E1ACD89113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ng exp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s-leader pric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F66A-5EBA-4721-8387-3D7479B539D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ING CONSIDER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ount that customers pay for products and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553080" y="426708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DFFC-DF60-4EB0-9A28-67307A749AD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cess of establishing and communicating the value of goods and services to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exp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costs associated with running your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rk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ount that is added to the cost of an item to cover operating expenses and allow for a pro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672-8E98-409F-B2F1-25296EE047F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companies offering the same produ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 do not recognize major differences in the br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rket will drive the prices low as businesses compete for consumers’ 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d by laws of supply and dem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ot sufficient to cover costs and allow for a profit, the business will cease production of the produ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ure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5907-DB0B-447D-A8FA-4378D1D696C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Pricing Polic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-price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ustomers pay the same price for a pro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le pricing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customers to negotiate a price within a 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B91D-398F-4533-AA85-7B1F034D56D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ct categories of merchandise based upon price, quality, and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graphic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pricing variations based upon geographic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ice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5F71-10EB-4894-B6FD-7CA2FB4A6F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A Variety of Pricing Strateg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03320"/>
            <a:ext cx="7848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ychological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an illusion for custom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tige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-than-average pri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gets customers seeking status and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A53D-5B28-4C9A-8BF3-36E84DD49B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upplier provides a lower price to a customer who buys a high volume of produc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motional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ing customers an incentive to get them in the store ( two-hour/ 50% off sa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motional Pric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next slide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Volum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63F0-E3B8-4020-97D5-4E3C92D9A4A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9.1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Supply and Dem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relationships between supply, demand, and p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government’s influence on pric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AD45-2D2F-44F1-9089-DBC0F06C6C7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s-Leader Pri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illingness to take a loss on the reduced prices of selected items in order to create more customer traf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event pro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s a special sale with a major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pons on products that customers can mail in for a ref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upon further action by the cust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omo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EAA1-A5BD-407C-8D17-88885CCD9FD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ntity Disc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-unit pri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olume based disco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de-in allow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ing a store your old product when purchasing a new produ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sults in a discount on the new product purch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16E8-5286-4FBF-907A-4FC826286C7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258264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and describe five pricing strategies to increase s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4CA-5FB9-407C-9E6C-1F7C7915BE0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ING THE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five steps to determining the price to charge for a product or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629400" y="434340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8F9-E814-4B18-8F95-A389E18EBB4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the cost of the product or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nsumer demand for your product or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 the compet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de on a pricing strate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stablish the price ob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CF26-C05B-40EC-B11D-0A26EF2490A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2666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the five steps for determining p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2F7-E541-40E1-8686-66551E15D6C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9.3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Market Condition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business cycle and describe its impact on sports and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importance of monitoring consumer tre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ED7D-2819-4704-99D5-8FA2905B05C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er period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4FF-A480-4F27-BB6D-3221835EC93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ACT OF THE BUSINESS CYC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siness cy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economic cyc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ps and downs of th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298600" cy="188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243-0764-4D0A-A792-642B05FA899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25003" t="11458" r="3906" b="10420"/>
          <a:stretch/>
        </p:blipFill>
        <p:spPr>
          <a:xfrm>
            <a:off x="1066680" y="30492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D90-9C0F-44DD-95EB-F37950ACA38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 of de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 of su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r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fi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it and swi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discrimina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13AB-46CA-45BD-9EB9-39CE015DE05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Expan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pside of a business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st point of growth in th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15D-D70F-4D4F-BBEA-46A399DF838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tr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ownside of a business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ssion or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prices for goods and services rise faster than consumer in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58A-ED09-4B39-99B0-59FA1CA454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Business Re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st point of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y shows signs of impro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pe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riod of business expansion following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81B5-A808-4D46-9CC3-3CED880F877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easonal Cyc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ome businesses, demand fluctuates with the sea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s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ason with the highest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s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ason with the lowest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D03-7DF1-470A-A527-80136413AFC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s of moderate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 and entertainment marketing strategies must be developed to help even out the fluctuations created by changing seasonal dem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8580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houlder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48A-9055-4F33-8B75-7E8D81A826D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nflation and how does it contribute to recess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470-D0F6-4384-93D5-C55655C6992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ACT OF CONSUMER TRE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s are dict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vision reven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s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298600" cy="188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226B-8B59-425A-87E7-3356C742841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Retro Televi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ro show fans like to relive the good old days and recall positive memories of growing up watching the stars in the sitc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r show reruns are inexpensive to show on tele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422-EA72-4C62-876F-6748F2A5825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ame Sho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game show channels that rerun old favo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game shows are being produced to meet dem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D395-5789-4392-99AE-391D258F471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Audience Ratings Spe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vision networks cannot afford the risk of having viewers switch channels to watch a more exciting show on a competing net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eries do not last more than six airings due to flat rat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ADF6-5DC1-4E7B-BB19-C894C18710E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LAWS OF SUPPLY AND DEM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lationship between the quantity of a product that consumers are willing and able to purchase and the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36720" t="44795" r="37502" b="31250"/>
          <a:stretch/>
        </p:blipFill>
        <p:spPr>
          <a:xfrm>
            <a:off x="6553080" y="4343400"/>
            <a:ext cx="236232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055B-137D-4EAD-9D33-E9E678478E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ocio-Culture Iss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o-culture issues include trends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attitu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festy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graphic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ing consumers’ ever-changing needs and wants is the bottom line for the success or failure of a product or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7E7-9712-4B6F-AD28-3BD9B28E53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6840" y="2582640"/>
            <a:ext cx="80010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must sports and entertainment marketers pay careful attention to consumer tr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A48-5368-405C-AA55-A4921517260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PERFORMANCE INDICATORS EVALUATE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 an understanding of the economic challenges facing television network programm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 critical thinking and problem-solving ski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0" name="Picture 5" descr="WinningEdge_Deca"/>
          <p:cNvPicPr/>
          <p:nvPr/>
        </p:nvPicPr>
        <p:blipFill>
          <a:blip r:embed="rId1"/>
          <a:stretch/>
        </p:blipFill>
        <p:spPr>
          <a:xfrm>
            <a:off x="6781680" y="457200"/>
            <a:ext cx="198144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42F-1320-4CC2-A44B-BA17D36F015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80520" y="3124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dvertisements that will attract the attention of your target mar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strategy to encourage viewers of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ce Is Ri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watch the bowl g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Picture 5" descr="WinningEdge_Deca"/>
          <p:cNvPicPr/>
          <p:nvPr/>
        </p:nvPicPr>
        <p:blipFill>
          <a:blip r:embed="rId1"/>
          <a:stretch/>
        </p:blipFill>
        <p:spPr>
          <a:xfrm>
            <a:off x="6781680" y="38088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7"/>
          <p:cNvSpPr/>
          <p:nvPr/>
        </p:nvSpPr>
        <p:spPr>
          <a:xfrm>
            <a:off x="380880" y="16002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escribe promotions appropriate for the target market that will result in increased ratings for the bowl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F2DB-3998-43F5-BC1E-CD6C15F4A3B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INK CRITICALL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the number of bowl games affected the television ratings for the ga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are the scheduled date and time of the game important factors for ratings and promo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5" descr="WinningEdge_Deca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7FCD-D954-4D1A-B332-F954609FE60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762120" y="341424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an association be made between the game show and the bowl gam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76212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should television networks pay attention to the programming scheduled around the game and on competing networks when making decision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WinningEdge_Deca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7B17-652E-4ECA-82AF-29E05C451F4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1750680"/>
            <a:ext cx="77724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es that use resources to develop products and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lationship between the quantity of a product that producers are willing and able to provide and the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rodu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485-9015-4228-AD24-519645604D5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Price-Demand Relationsh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w of de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verse 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price goes up, demand goes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price goes down, demand goes 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D22-F14E-4F82-8151-2E641131D0B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Price-Supply Relationsh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w of su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price goes up the supply produced goes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price goes down the supply produced goes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EF71-408C-4EC0-BBBD-34DE4E6CA4D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car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ar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 have limited money to sp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rs have limited resources to use for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and producers must decide how to use their limited resources to meet unlimited wants and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essicaLee</cp:lastModifiedBy>
  <dcterms:modified xsi:type="dcterms:W3CDTF">2014-01-21T21:37:41Z</dcterms:modified>
  <cp:revision>683</cp:revision>
  <dc:subject/>
  <dc:title>Chapter 9</dc:title>
</cp:coreProperties>
</file>